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189-609F-43A2-8FF3-ECA76E6F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19A-2E03-4FBC-B496-409457B0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D6E-78CC-441A-9024-5E666AAC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442-066B-48F8-B28E-EB1EA12D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0D0-1635-4EB1-B2C7-5F4A61A5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8DA-9725-4628-90E7-4EB7C859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56A-00CC-4711-8A82-75C0037A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852-3602-4C69-AFBA-A49C1AD9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E43-5D15-4D7F-B0F0-27531D97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3C7-2EA8-4ECF-B459-B0DE2D45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0FE-CE1B-49C1-9250-EC82E0B0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AC5-BBC8-46ED-B224-5D32F34A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8B08-199D-446F-B99E-DB8DAD874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3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523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Proper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roduce a change in the composition (make up) of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2860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only observ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se changes when substances in a sample of matter are changing into different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200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examples of chemic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65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How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lammable a material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4038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lammability –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aterials ability to burn in presence of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876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good, or 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eactivity = how readily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asy) a substance combines chemically with other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600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xygen – high reactivity; nitrogen – lo 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2096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ognizing Chemic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90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emical chang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ake place when a substance </a:t>
            </a:r>
            <a:r>
              <a:rPr b="1" lang="en-US" sz="2400" spc="-1" strike="noStrike" u="sng">
                <a:solidFill>
                  <a:srgbClr val="996600"/>
                </a:solidFill>
                <a:uFillTx/>
                <a:latin typeface="Times New Roman"/>
              </a:rPr>
              <a:t>reacts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and forms a </a:t>
            </a:r>
            <a:r>
              <a:rPr b="1" lang="en-US" sz="2400" spc="-1" strike="noStrike" u="sng">
                <a:solidFill>
                  <a:srgbClr val="996600"/>
                </a:solidFill>
                <a:uFillTx/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vidence for chem.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038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hange in color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X: copper roof on house (figure 19, pg. 5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7692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oduction of a gas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x: vinegar and baking soda </a:t>
            </a:r>
            <a:r>
              <a:rPr b="0" lang="en-US" sz="24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ormation of a precipitate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 solid which form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nd separates from a liquid EX: acid and mil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286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ook a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composition (make-up), is there a change of the matter into something n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29718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?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?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523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tell if a change is physical or 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Unknown substance cannot be broken down into a simpler substance,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CorShape1"/>
          <p:cNvSpPr/>
          <p:nvPr/>
        </p:nvSpPr>
        <p:spPr>
          <a:xfrm>
            <a:off x="223920" y="398304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of one kind of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2 an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heterogenous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in a swimming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a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ar of mixed n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inless st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orShape1"/>
          <p:cNvSpPr/>
          <p:nvPr/>
        </p:nvSpPr>
        <p:spPr>
          <a:xfrm>
            <a:off x="254160" y="3182760"/>
            <a:ext cx="25380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pure subst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17431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erial that is malleable and conducts electricity is most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CorShape1"/>
          <p:cNvSpPr/>
          <p:nvPr/>
        </p:nvSpPr>
        <p:spPr>
          <a:xfrm>
            <a:off x="2590920" y="23623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 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physical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609480" y="1841400"/>
          <a:ext cx="8661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41400"/>
                    <a:ext cx="8661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wing a piece of wood in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ning a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t forming on an iron 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pper roof changing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rShape1"/>
          <p:cNvSpPr/>
          <p:nvPr/>
        </p:nvSpPr>
        <p:spPr>
          <a:xfrm>
            <a:off x="1163520" y="212400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evidence of a chemical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TPChart"/>
          <p:cNvGraphicFramePr/>
          <p:nvPr/>
        </p:nvGraphicFramePr>
        <p:xfrm>
          <a:off x="609480" y="1828800"/>
          <a:ext cx="8661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661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CorShape1"/>
          <p:cNvSpPr/>
          <p:nvPr/>
        </p:nvSpPr>
        <p:spPr>
          <a:xfrm>
            <a:off x="990720" y="4167360"/>
            <a:ext cx="507960" cy="5079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n changes color when h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 bubbles form in boiling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ls of wax form when melted wax is poured into ice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as forms when vinegar and baking soda are mix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8:05:59Z</dcterms:created>
  <dc:creator>Farwell Area Schools</dc:creator>
  <dc:description/>
  <dc:language>en-US</dc:language>
  <cp:lastModifiedBy>Farwell Area Schools</cp:lastModifiedBy>
  <dcterms:modified xsi:type="dcterms:W3CDTF">2009-01-19T20:07:45Z</dcterms:modified>
  <cp:revision>15</cp:revision>
  <dc:subject/>
  <dc:title>Note Guide 3-3</dc:title>
</cp:coreProperties>
</file>